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8557-6D6C-4BE0-995B-295BCF82D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9B8D-2B95-4087-8E1D-DAD758B90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5742-5BA9-446C-ABBB-DFA399E8C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A098-DC62-41DF-815D-EE28C3043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D7BAC-0575-4717-9424-579B53359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E02C0-1EDA-4E10-9B43-420935357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B7AC6-0BD1-4729-A55D-8C0BC296C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F7E04-65DD-41B9-8C05-CC06C4153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E9D37-F378-4164-A626-0B6C29CEC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1BA5E-B950-4D28-A6DD-774890063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CFA44-61F9-4E7E-A677-980FF22A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0770-E153-46A1-A707-6432E3564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D7B48-C43F-4AC2-9A89-8DD4D552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EB1C0-C9A8-4F4A-9229-89E6E4AD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E201F-7093-4AD3-829B-3895F28E1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86887-D588-4136-99D7-59AD38E95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90045-AB04-48B2-AC77-D5EF8A559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EC9A-8DE6-4F57-9C0B-0BC218E90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BF6C-8C05-46F6-9957-EDC9A82D8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A13E-656E-4A3B-9F74-AF7C04270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D29C-1A81-44E7-BA87-2C3B2D7D1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D40F-216C-4B89-B42B-4FC3AAC8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D25B-C527-4538-A68F-6ABC319C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C7C0-32AD-4CAA-954A-9759105A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83183-DF19-4FB3-9622-BA3F302F470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78373-4F51-48A6-9BDD-7CB027B1549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2374920"/>
            <a:ext cx="77724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hapter 18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 Current Circu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quivalent Resistance – Series: An Exampl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540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 resistors are replaced with their equivalent resist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838080" y="2017800"/>
            <a:ext cx="7010640" cy="33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esistors in Parallel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otential difference across each resistor is the same because each is connected directly across the battery termin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urrent, I, that enters a point must be equal to the total current leaving that poi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=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urrents are generally not the sa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equence of Conservation of Char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quivalent Resistance – Parallel, Exampl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0720" y="4647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valent resistance replaces the two original resistan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Household circui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re wired so the electrical devices are connected in parall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ircuit breakers may be used in series with other circuit elements for safety purpo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795320" y="1905120"/>
            <a:ext cx="2633760" cy="2697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911840" y="1905120"/>
            <a:ext cx="25272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quivalent Resistance – Parallel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4191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valent Resist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inverse of the equivalent resistance of two or more resistors connected in parallel is the algebraic sum of the inverses of the individual resist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equivalent is always less than the smallest resistor in the grou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295280" y="2286000"/>
                <a:ext cx="27432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35600" y="2209680"/>
            <a:ext cx="413208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oblem-Solving Strategy, 1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bine all resistors in se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y carry the same curr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otential differences across them are not the sa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istors add directly to give the equivalent resistance of the series combination: 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eq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+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+ 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oblem-Solving Strategy, 2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bine all resistors in paralle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otential differences across them are the sa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urrents through them are not the sa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equivalent resistance of a parallel combination is found through reciprocal additi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438280" y="5791320"/>
                <a:ext cx="320040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oblem-Solving Strategy, 3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plicated circuit consisting of several resistors and batteries can often be reduced to a simple circuit with only one resis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place any resistors in series or in parallel using steps 1 or 2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ketch the new circuit after these changes have been ma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inue to replace any series or parallel combination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inue until one equivalent resistance is fou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oblem-Solving Strategy, 4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f the current in or the potential difference across a resistor in the complicated circuit is to be identified, start with the final circuit found in step 3 and gradually work back through the circu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ΔV = I R and the procedures in steps 1 and 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4191120"/>
            <a:ext cx="4191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quival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esistance –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omplex Circui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572000" y="22320"/>
            <a:ext cx="419112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Gustav Kirchhoff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24 – 188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nted spectroscopy with Robert Buns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mulated rules about rad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105520" y="1828800"/>
            <a:ext cx="3319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ources of emf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ource that maintains the current in a closed circuit is called a source of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em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y devices that increase the potential energy of charges circulating in circuits are sources of em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s include batteries and gener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 units are Vo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mf is the work done per unit char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Kirchhoff’s Rul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re are ways in which resistors can be connected so that the circuits formed cannot be reduced to a single equivalent resist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rules, called Kirchhoff’s Rules can be used instea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tatement of Kirchhoff’s Rul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unction Ru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um of the currents entering any junction must equal the sum of the currents leaving that jun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statement of Conservation of Char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p Ru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um of the potential differences across all the elements around any closed circuit loop must be ze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statement of Conservation of Energ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re About the Junction Rul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om Conservation of Char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agram b shows a mechanical analo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334120" y="2017800"/>
            <a:ext cx="2882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etting Up Kirchhoff’s Rul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symbols and directions to the currents in all branches of the circu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a direction is chosen incorrectly, the resulting answer will be negative, but the magnitude will be corr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applying the loop rule, choose a direction for transversing the loo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 voltage drops and rises as they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re About the Loop Rul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201780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veling around the loop from a to 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a, the resistor is transversed in the direction of the current, the potential across the resistor is –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b, the resistor is transversed in the direction opposite of the current, the potential across the resistor is +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572000" y="2305080"/>
          <a:ext cx="4495680" cy="37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305080"/>
                    <a:ext cx="4495680" cy="37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Loop Rule, final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423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c, the source of emf is transversed in the direction of the emf (from – to +), the change in the electric potential is +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d, the source of emf is transversed in the direction opposite of the emf (from + to -), the change in the electric potential is -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5105520" y="2514600"/>
          <a:ext cx="3809880" cy="318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2514600"/>
                    <a:ext cx="3809880" cy="31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Junction Equations from Kirchhoff’s Rul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the junction rule as often as needed, so long as, each time you write an equation, you include in it a current that has not been used in a previous junction rule equ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general, the number of times the junction rule can be used is one fewer than the number of junction points in the circu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Loop Equations from Kirchhoff’s Rul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oop rule can be used as often as needed so long as a new circuit element (resistor or battery) or a new current appears in each new equ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ou need as many independent equations as you have unknow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oblem-Solving Strategy – Kirchhoff’s Rul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aw the circuit diagram and assign labels and symbols to all known and unknown quantities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directions to the curren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the junction rule to any junction in the circu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the loop rule to as many loops as are needed to solve for the unknow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lve the equations simultaneously for the unknown quant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your answ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C Circuit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direct current circuit may contain capacitors and resistors, the current will vary with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the circuit is completed, the capacitor starts to char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apacitor continues to charge until it reaches its maximum charge (Q = Cε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ce the capacitor is fully charged, the current in the circuit is zer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mf and Internal Resistanc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real battery has some internal resist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refore, the terminal voltage is not equal to the em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145120" y="2019240"/>
            <a:ext cx="3809880" cy="41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harging Capacitor in an RC Circui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harge on the capacitor varies with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 = Q(1 – 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-t/RC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ime consta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=R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ime constant represents the time required for the charge to increase from zero to 63.2% of its max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495680" y="1905120"/>
          <a:ext cx="4496040" cy="417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905120"/>
                    <a:ext cx="4496040" cy="41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Notes on Time Consta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a circuit with a large time constant, the capacitor charges very slow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capacitor charges very quickly if there is a small time con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fter t = 10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the capacitor is over 99.99% charg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ischarging Capacitor in an RC Circui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017800"/>
            <a:ext cx="430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a charged capacitor is placed in the circuit, it can be discharg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 = Qe-t/R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harge decreases exponential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RC, the charge decreases to 0.368 Qma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other words, in one time constant, the capacitor loses 63.2% of its initial char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830840" y="2108160"/>
            <a:ext cx="416088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C curcuit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????????????????????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Household Circuit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utility company distributes electric power to individual houses with a pair of wi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ectrical devices in the house are connected in parallel with those wi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otential difference between the wires is about 120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105520" y="1930320"/>
            <a:ext cx="3925800" cy="47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Household Circuits, cont.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meter and a circuit breaker are connected in series with the wire entering the h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res and circuit breakers are selected to meet the demands of the circu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the current exceeds the rating of the circuit breaker, the breaker acts as a switch and opens the circu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sehold circuits actually use alternating current and volt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lectrical Safet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ctric shock can result in fatal bur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ctric shock can cause the muscles of vital organs (such as the heart) to malfun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degree of damage depends 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agnitude of the curr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length of time it a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art of the body through which it pa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ffects of Various Current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 mA or l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cause a sensation of sho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nerally little or no dam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0 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nd muscles contra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y be unable to let go a of live w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00 m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passes through the body for just a few seconds, can be fat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Ground Wir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ctrical equipment manufacturers use electrical cords that have a third wire, called a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ase grou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vents shoc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145120" y="201780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Ground Fault Interrupts (GFI)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pecial power outle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in hazardous area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igned to protect people from electrical sh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nses currents (of about 5 mA or greater) leaking to grou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huts off the current when above this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re About Internal Resistanc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chematic shows the internal resistance, 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erminal voltage is ΔV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ΔV = ε – 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he entire circuit, ε = IR + 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95680" y="2290680"/>
            <a:ext cx="4496040" cy="34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lectrical Signals in Neuro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819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pecialized cells in the body, called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neuron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form a complex network that receives, processes, and transmits information from one part of the body to anoth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ree classes of neur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nsory neur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ceive stimuli from sensory organs that monitor the external and internal environment of the bod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tor neur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rry messages that control the muscle cel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rneur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nsmit information from one neuron to anot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iagram of a Neur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676520" y="1925640"/>
            <a:ext cx="546084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Home or anywhere work*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,3,4,5,7,8,9,11,14,16,22,30,31, 32,33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* ‘cause I don’t really care where you do it as long as you do!!!!!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Internal Resistance and emf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ε is equal to the terminal voltage when the current is zer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so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open-circuit volt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 is called the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load resist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current depends on both the resistance external to the battery and the internal resist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Internal Resistance and emf, final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R &gt;&gt; r, r can be ignor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nerally assumed in probl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wer relationshi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= I</a:t>
            </a:r>
            <a:r>
              <a:rPr b="0" lang="en-US" sz="3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R + I</a:t>
            </a:r>
            <a:r>
              <a:rPr b="0" lang="en-US" sz="3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R &gt;&gt; r, most of the power delivered by the battery is transferred to the load resist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esistors in Seri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two or more resistors are connected end-to-end, they are said to be in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er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urrent is the same in all resistors because any charge that flows through one resistor flows through the oth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um of the potential differences across the resistors is equal to the total potential difference across the comb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esistors in Series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tentials ad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ΔV = I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+ I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= I (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+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equence of Conservation of Energ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quivalent resistance has the effect on the circuit as the original combination of resis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648320" y="2057400"/>
            <a:ext cx="426708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quivalent Resistance – Seri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eq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+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+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+ 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equivalent resistance of a series combination of resistors is the algebraic sum of the individual resistances and is always greater than any of the individual resisto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6T23:14:01Z</dcterms:created>
  <dc:creator>Brooks/Cole</dc:creator>
  <dc:description/>
  <dc:language>en-US</dc:language>
  <cp:lastModifiedBy>DCPS</cp:lastModifiedBy>
  <dcterms:modified xsi:type="dcterms:W3CDTF">2009-01-07T18:04:53Z</dcterms:modified>
  <cp:revision>21</cp:revision>
  <dc:subject/>
  <dc:title>Chapter 18</dc:title>
</cp:coreProperties>
</file>